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7A5-9DD6-4D4B-96E2-0371DEB2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A9A-E16C-4BE7-A798-E68BFBF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D8F-4ADA-4BD2-BFC0-543C0068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B26-BE1E-4C13-BCB5-98E0C1CA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F1A-8705-413C-98A3-BB482D91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FE0F-EAEA-4423-944A-0DD9314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4FE8-8447-4AA7-BBE6-FFCBDA97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7AD0-A999-4EAF-BEB2-57F29D5C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80D-DBBB-41BF-A796-144F3DF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E79-61F2-4E93-86C7-2570A273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D199-8607-43D8-A644-92662F93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976-7057-4013-976B-0B90F58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1882-3C92-4628-A181-67E2A18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4D82-F8BF-433E-BE77-50B496C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692A-AC34-4283-BC9A-B6532B8B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42A-951B-49F7-A417-63A6D202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D8B-7A62-409E-8670-54EE45D1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39A-C454-4848-AA6D-B19B314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CFF-55C1-479A-8185-05222DC6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1B9-1901-4D47-9F4F-B84AEE0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68D-5D3E-4CE7-9D1B-F0DF3CB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5CB-ACA8-4B6C-ABF9-B0E9249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678-FB62-4A7C-8414-96CA397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020-2A8B-45B0-BABF-CDD83EE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807-74E1-453E-8DDD-E47584F3F6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E6FD-534F-4924-BDB3-EEAC0A588B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dow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Software Engineering Odysse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k Lucovs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inguished Engine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crosoft Corpo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ing a Cul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 scale a development team, you need to establish a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evaluating designs, making tradeoff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developing code and reacting to problems (build breaks, critical bug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establishing ownership of probl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al setting can be the foundation for the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eeping a culture alive as a team grows is a huge challen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NT Cul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tability, Reliability, Security, and Extensibility ingrained as the teams top pri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ery decision was made in the context of these design go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one owns all the code, so whenever something is busted anyone has a right and a duty to fix 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orks in small groups (&lt; 150 people) where people cover for each oth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ails miserably in large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oppiness is not toler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eat idea, but very difficult to nurture as group grow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use and intimidation gets way out of control, can’t keep calling people stupid and expect them to list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uccessful culture has to accept that mistakes will ha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T 3.1 vs. Windows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 Te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ialized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Te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3.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rts very small (6), grows very slowly to 200 peo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T Culture was commonly understood by a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20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s assimilation of other teams into the NT te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T 4.0 had 800 developers, Windows 2000 had 14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iginal NT culture practiced by the old timers in the group, but keeping the culture alive was very difficult due to growth, physical separatio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iluted culture leads to much confli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ccountability: I don’t “own” the code that is busted, see Mark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liability vs. new featur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64-bit portability vs. new featur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NT 3.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nally developed, maintained by a non-NT tools te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branch capability, but with small team, it was not nee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-12 well isolated source “projects”, 6M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l project separation worked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imal obscure source level dependenc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all hard drive could easily hold entire source tr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r could easily stay in synch with changes made to the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Windows 200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team takes ownership of source code control system which at this point is on life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anch capability sorely needed, tree copies used as substitute, so merging is a nightm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80 source “projects” 29M LO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project separation, reaching “up and over” was very common as developers tried to minimize what they had to carry on their machines to get their jobs d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ll source base required about 50Gb of disk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keep a machine in synch was a huge chore (1 week to setup, 2 hours per-day to synchroni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 (NT 3.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fe synch period in effect for ~4 hours each day, all other times the rule is check-in when rea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lab synchs during morning safe synch period, and starts a complete build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ild breaks are corrected manually during the build process (1-2 breaks was norm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build time is 5 hours on ~486/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is boot tested with some very minimal testing before release to stress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ects corrected with incremental build fix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pm, stress testing on ~100 machines beg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 (Windows 200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velopers are not allowed to change the source tree without explicit, email/written permiss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ild lab manually approves each check-in using a combination of email, web, and bug tracking databas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lab approves about 100 changes each day and manually issues the appropriate synch and build comman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ild breaks are corrected manually, and when they occur, all further build processing is hal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developer that mistypes a build instruction can stop the build lab, which in turn stops over 5,000 peop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lete build time is 8 hours on 4 way PIII Xeon 550 with 50Gb disk and 512k R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is boot tested and assuming we get a boot, extensive baseline testing beg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esting is a mostly manual, semi-automated proce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ects occurring in the boot or test phase must be corrected before build is “released” for stress test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pm, stress testing on ~1000 machines beg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676520"/>
          <a:ext cx="7848720" cy="4521240"/>
        </p:xfrm>
        <a:graphic>
          <a:graphicData uri="http://schemas.openxmlformats.org/drawingml/2006/table">
            <a:tbl>
              <a:tblPr/>
              <a:tblGrid>
                <a:gridCol w="1676520"/>
                <a:gridCol w="3047760"/>
                <a:gridCol w="31244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Dev Team Siz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Test Team Siz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4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5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2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4.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in2k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4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7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ialized Develop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4400" y="3395520"/>
          <a:ext cx="746748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95520"/>
                    <a:ext cx="74674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3808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odel from NT 3.1 -&gt; Windows 20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developers on team check-in to a single main line bran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ter build lab synchs to main branch and builds and releases from that bran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ecked in defect affects everyone waiting for resul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of 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 Goals/Cul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T 3.1 Development vs. Windows 2000 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ment for the next 10 yea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ect Rates and Seri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ile time or run time bugs that occur in a developers office only affect that develop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ce a defect is checked-in, the number of people affected by the defect incre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st developers are going to check-in a runtime or compile time mistake at least twice each ye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st developers will be able to cope with a checked-in compile time or run time break very quickly (about 20 minutes end-to-end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 the code base gets larger, and as the team gets larger, these numbers typically dou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efect Rates D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90720" y="3505320"/>
          <a:ext cx="7772400" cy="2862000"/>
        </p:xfrm>
        <a:graphic>
          <a:graphicData uri="http://schemas.openxmlformats.org/drawingml/2006/table">
            <a:tbl>
              <a:tblPr/>
              <a:tblGrid>
                <a:gridCol w="1828800"/>
                <a:gridCol w="1067040"/>
                <a:gridCol w="1447560"/>
                <a:gridCol w="1143000"/>
                <a:gridCol w="22860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eam Siz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s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ev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ime to Fix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efec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s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a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 Fix Tim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1, 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, 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5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1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1, 45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.2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4.0, 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8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in2k, 1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.2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th serialized developmen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od, small teams operate efficient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en the absolute best large teams are always broken, and always serializ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Environment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3.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ast and loose development, lots of fun, lots of ener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w barriers to getting your work d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fects serialized parts of the process, but didn’t stop the whole machine, minimal down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20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urce code control system bursting at the sea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ssive process management serialized the entire development process, 1 defect stops 1400 devs, 5000 team members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ources required to build a complete instance of NT were excessive giving few developers a way to be successfu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cused Fix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Restructu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the large team work like a set of small te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is already organized into reasonable size development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al is to allow these teams to work as a team when contributing source code changes rather than as a group of individuals that happen to work for the same V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llel Development, Team Level Independe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ed Bui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source code control system identified 3/99 (SourceDepo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ative branch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le, high speed, client server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machine setup 3 hours vs. 1 we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 synch 5 minutes vs. 2 hou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ition to SourceDepot done on LIVE Win2k code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nd built SLM -&gt; SourceDepot migration system allowed us to keep in synch with the old system while transitioning to SourceDepot and changing the source cod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Restructu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6 Depots for covering each major area of source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ganization is focu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izing cross project dependencies to reduce defect r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zing projects to compile in a reasonable amount of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 build a project, all you need is the code for that project, AND the public/root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oss project sharing is explic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Tree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ew tree layout fe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ot project houses publ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 Additional projects hang off of the Ro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nested projec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projects build independ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oss project dependencies resolved via Public, Public\internal using checked in interfac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553080" y="2209680"/>
          <a:ext cx="19544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209680"/>
                    <a:ext cx="1954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icit Internal Interface Sha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2133720"/>
          <a:ext cx="240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40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4114800" y="3940200"/>
            <a:ext cx="1905120" cy="914400"/>
          </a:xfrm>
          <a:prstGeom prst="borderCallout1">
            <a:avLst>
              <a:gd name="adj1" fmla="val -16326"/>
              <a:gd name="adj2" fmla="val -1800"/>
              <a:gd name="adj3" fmla="val 20304"/>
              <a:gd name="adj4" fmla="val -18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The Base Project internal interfaces exposed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244600"/>
            <a:ext cx="1905120" cy="914400"/>
          </a:xfrm>
          <a:prstGeom prst="borderCallout1">
            <a:avLst>
              <a:gd name="adj1" fmla="val -14292"/>
              <a:gd name="adj2" fmla="val 23400"/>
              <a:gd name="adj3" fmla="val 20304"/>
              <a:gd name="adj4" fmla="val 234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The Admin Project internal interfaces exposed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Level Independ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team determines its own check-in policy, enable rapid, frequent check i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ams are isolated from mistakes made by other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errors occur, only the team causing the error is affec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build, boot, or test break only affects a small subset of the product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team has their own view of the source tree, their own mini build lab, and builds an entire installable buil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y developer with adequate resources can easily duplicate a mini build la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and release a completely installable Windows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T Timeline first 10 yea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/89 Coding Beg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7/93 NT 3.1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9/94 NT 3.5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5/95 NT 3.51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7/96 NT 4.0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2/99 NT 5.0 a.k.a. Windows 2000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allel Development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572000"/>
            <a:ext cx="57913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4419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Main Build Lab Bran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7200" y="3247920"/>
            <a:ext cx="8372520" cy="1324080"/>
            <a:chOff x="457200" y="3247920"/>
            <a:chExt cx="8372520" cy="1324080"/>
          </a:xfrm>
        </p:grpSpPr>
        <p:sp>
          <p:nvSpPr>
            <p:cNvPr id="278" name=""/>
            <p:cNvSpPr/>
            <p:nvPr/>
          </p:nvSpPr>
          <p:spPr>
            <a:xfrm>
              <a:off x="457200" y="3429000"/>
              <a:ext cx="5943600" cy="1143000"/>
            </a:xfrm>
            <a:custGeom>
              <a:avLst/>
              <a:gdLst/>
              <a:ahLst/>
              <a:rect l="l" t="t" r="r" b="b"/>
              <a:pathLst>
                <a:path w="4464" h="1264">
                  <a:moveTo>
                    <a:pt x="0" y="1264"/>
                  </a:moveTo>
                  <a:cubicBezTo>
                    <a:pt x="252" y="840"/>
                    <a:pt x="504" y="416"/>
                    <a:pt x="1248" y="208"/>
                  </a:cubicBezTo>
                  <a:cubicBezTo>
                    <a:pt x="1992" y="0"/>
                    <a:pt x="3928" y="32"/>
                    <a:pt x="4464" y="1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5480" y="3247920"/>
              <a:ext cx="24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’s Windows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4876920"/>
            <a:ext cx="29718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Main branch is built by the master build lab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Quality is always high because only well tested complete group check-ins are done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2438280"/>
            <a:ext cx="8229600" cy="4179960"/>
            <a:chOff x="457200" y="2438280"/>
            <a:chExt cx="8229600" cy="4179960"/>
          </a:xfrm>
        </p:grpSpPr>
        <p:grpSp>
          <p:nvGrpSpPr>
            <p:cNvPr id="282" name=""/>
            <p:cNvGrpSpPr/>
            <p:nvPr/>
          </p:nvGrpSpPr>
          <p:grpSpPr>
            <a:xfrm>
              <a:off x="457200" y="2438280"/>
              <a:ext cx="8229600" cy="2133720"/>
              <a:chOff x="457200" y="2438280"/>
              <a:chExt cx="8229600" cy="2133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57200" y="2590920"/>
                <a:ext cx="5791320" cy="1981080"/>
              </a:xfrm>
              <a:custGeom>
                <a:avLst/>
                <a:gdLst/>
                <a:ahLst/>
                <a:rect l="l" t="t" r="r" b="b"/>
                <a:pathLst>
                  <a:path w="4464" h="1264">
                    <a:moveTo>
                      <a:pt x="0" y="1264"/>
                    </a:moveTo>
                    <a:cubicBezTo>
                      <a:pt x="252" y="840"/>
                      <a:pt x="504" y="416"/>
                      <a:pt x="1248" y="208"/>
                    </a:cubicBezTo>
                    <a:cubicBezTo>
                      <a:pt x="1992" y="0"/>
                      <a:pt x="3928" y="32"/>
                      <a:pt x="4464" y="16"/>
                    </a:cubicBezTo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2438280"/>
                <a:ext cx="236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Robs Base Branc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9480" y="4809960"/>
              <a:ext cx="4038840" cy="180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Team branches have their own check-in policy.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Team members check-in to their branch, not the main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Each team branch has their own mini-build lab that produces full builds for that tea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85800" y="1676520"/>
            <a:ext cx="3733920" cy="4952880"/>
            <a:chOff x="685800" y="1676520"/>
            <a:chExt cx="3733920" cy="4952880"/>
          </a:xfrm>
        </p:grpSpPr>
        <p:grpSp>
          <p:nvGrpSpPr>
            <p:cNvPr id="287" name=""/>
            <p:cNvGrpSpPr/>
            <p:nvPr/>
          </p:nvGrpSpPr>
          <p:grpSpPr>
            <a:xfrm>
              <a:off x="1371600" y="1676520"/>
              <a:ext cx="2438280" cy="1218960"/>
              <a:chOff x="1371600" y="1676520"/>
              <a:chExt cx="2438280" cy="1218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371600" y="1676520"/>
                <a:ext cx="2438280" cy="824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Robs team checks into his own branch without affecting Main, or Debb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600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5800" y="4876920"/>
              <a:ext cx="37339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1600" y="1676520"/>
            <a:ext cx="2514600" cy="1981080"/>
            <a:chOff x="1371600" y="1676520"/>
            <a:chExt cx="2514600" cy="1981080"/>
          </a:xfrm>
        </p:grpSpPr>
        <p:sp>
          <p:nvSpPr>
            <p:cNvPr id="294" name=""/>
            <p:cNvSpPr/>
            <p:nvPr/>
          </p:nvSpPr>
          <p:spPr>
            <a:xfrm>
              <a:off x="1371600" y="1676520"/>
              <a:ext cx="2514600" cy="824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’s team makes similar check-ins without impacting Rob or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33526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400" y="3276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9680" y="3276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2320" y="320040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438280" y="2895120"/>
            <a:ext cx="2514600" cy="2486160"/>
            <a:chOff x="2438280" y="2895120"/>
            <a:chExt cx="2514600" cy="2486160"/>
          </a:xfrm>
        </p:grpSpPr>
        <p:sp>
          <p:nvSpPr>
            <p:cNvPr id="300" name=""/>
            <p:cNvSpPr/>
            <p:nvPr/>
          </p:nvSpPr>
          <p:spPr>
            <a:xfrm flipV="1">
              <a:off x="2438280" y="2895120"/>
              <a:ext cx="0" cy="16765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4600" y="4800600"/>
              <a:ext cx="243828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Rob integrates build lab changes to his tre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057400" y="2819520"/>
            <a:ext cx="3429000" cy="2561760"/>
            <a:chOff x="2057400" y="2819520"/>
            <a:chExt cx="3429000" cy="2561760"/>
          </a:xfrm>
        </p:grpSpPr>
        <p:sp>
          <p:nvSpPr>
            <p:cNvPr id="303" name=""/>
            <p:cNvSpPr/>
            <p:nvPr/>
          </p:nvSpPr>
          <p:spPr>
            <a:xfrm flipV="1">
              <a:off x="2743200" y="2819520"/>
              <a:ext cx="0" cy="16761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4800600"/>
              <a:ext cx="34290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Rob builds resulting tree, tests tree and then integrates to the main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981080" y="3181320"/>
            <a:ext cx="3657600" cy="2228400"/>
            <a:chOff x="1981080" y="3181320"/>
            <a:chExt cx="3657600" cy="2228400"/>
          </a:xfrm>
        </p:grpSpPr>
        <p:sp>
          <p:nvSpPr>
            <p:cNvPr id="306" name=""/>
            <p:cNvSpPr/>
            <p:nvPr/>
          </p:nvSpPr>
          <p:spPr>
            <a:xfrm flipV="1">
              <a:off x="3124080" y="356220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7180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4829040"/>
              <a:ext cx="36576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 makes a few changes then integrates from the main build lab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371600" y="1676520"/>
            <a:ext cx="4267080" cy="4434840"/>
            <a:chOff x="1371600" y="1676520"/>
            <a:chExt cx="4267080" cy="4434840"/>
          </a:xfrm>
        </p:grpSpPr>
        <p:grpSp>
          <p:nvGrpSpPr>
            <p:cNvPr id="314" name=""/>
            <p:cNvGrpSpPr/>
            <p:nvPr/>
          </p:nvGrpSpPr>
          <p:grpSpPr>
            <a:xfrm>
              <a:off x="1981080" y="3124080"/>
              <a:ext cx="3657600" cy="2987280"/>
              <a:chOff x="1981080" y="3124080"/>
              <a:chExt cx="3657600" cy="298728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3200400" y="3124080"/>
                <a:ext cx="609480" cy="1371600"/>
                <a:chOff x="3200400" y="3124080"/>
                <a:chExt cx="609480" cy="1371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809880" y="35053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0040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268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0532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65760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981080" y="4800600"/>
                <a:ext cx="3657600" cy="13107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During test, more changes are needed to make system work well. When done, integration into main build lab branch occurs. During this period, robs team continues to check-in to their branc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371600" y="1676520"/>
              <a:ext cx="2514600" cy="1066680"/>
              <a:chOff x="1371600" y="1676520"/>
              <a:chExt cx="2514600" cy="1066680"/>
            </a:xfrm>
          </p:grpSpPr>
          <p:sp>
            <p:nvSpPr>
              <p:cNvPr id="323" name=""/>
              <p:cNvSpPr/>
              <p:nvPr/>
            </p:nvSpPr>
            <p:spPr>
              <a:xfrm>
                <a:off x="1371600" y="1676520"/>
                <a:ext cx="251460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2895480" y="2438280"/>
                <a:ext cx="762120" cy="304920"/>
                <a:chOff x="2895480" y="2438280"/>
                <a:chExt cx="762120" cy="3049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89548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04812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0040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0532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5760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1305000" y="4572000"/>
            <a:ext cx="6666840" cy="1600200"/>
            <a:chOff x="1305000" y="4572000"/>
            <a:chExt cx="6666840" cy="1600200"/>
          </a:xfrm>
        </p:grpSpPr>
        <p:sp>
          <p:nvSpPr>
            <p:cNvPr id="332" name=""/>
            <p:cNvSpPr/>
            <p:nvPr/>
          </p:nvSpPr>
          <p:spPr>
            <a:xfrm>
              <a:off x="1981080" y="4800600"/>
              <a:ext cx="3657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05000" y="4572000"/>
              <a:ext cx="4267080" cy="1371600"/>
            </a:xfrm>
            <a:custGeom>
              <a:avLst/>
              <a:gdLst/>
              <a:ahLst/>
              <a:rect l="l" t="t" r="r" b="b"/>
              <a:pathLst>
                <a:path w="2688" h="864">
                  <a:moveTo>
                    <a:pt x="0" y="0"/>
                  </a:moveTo>
                  <a:cubicBezTo>
                    <a:pt x="88" y="288"/>
                    <a:pt x="176" y="576"/>
                    <a:pt x="624" y="720"/>
                  </a:cubicBezTo>
                  <a:cubicBezTo>
                    <a:pt x="1072" y="864"/>
                    <a:pt x="1880" y="864"/>
                    <a:pt x="2688" y="864"/>
                  </a:cubicBezTo>
                </a:path>
              </a:pathLst>
            </a:custGeom>
            <a:noFill/>
            <a:ln w="572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2600" y="57150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N+1 Dev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28800" y="4572000"/>
            <a:ext cx="7162920" cy="2104560"/>
            <a:chOff x="1828800" y="4572000"/>
            <a:chExt cx="7162920" cy="2104560"/>
          </a:xfrm>
        </p:grpSpPr>
        <p:grpSp>
          <p:nvGrpSpPr>
            <p:cNvPr id="336" name=""/>
            <p:cNvGrpSpPr/>
            <p:nvPr/>
          </p:nvGrpSpPr>
          <p:grpSpPr>
            <a:xfrm>
              <a:off x="1828800" y="4572000"/>
              <a:ext cx="1447920" cy="1523880"/>
              <a:chOff x="1828800" y="4572000"/>
              <a:chExt cx="1447920" cy="152388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1828800" y="55627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1981080" y="5638320"/>
                <a:ext cx="0" cy="3049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2133720" y="5714640"/>
                <a:ext cx="0" cy="3049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286000" y="57913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2514600" y="57913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57400" y="4572000"/>
                <a:ext cx="0" cy="99072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38280" y="4572000"/>
                <a:ext cx="0" cy="114300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76720" y="4572000"/>
                <a:ext cx="0" cy="129528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19520" y="4572000"/>
                <a:ext cx="0" cy="121932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962520" y="6095880"/>
              <a:ext cx="50292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N+1 Team checks into their branch and periodically integrates from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3701880"/>
            <a:ext cx="5181840" cy="2974680"/>
            <a:chOff x="3809880" y="3701880"/>
            <a:chExt cx="5181840" cy="2974680"/>
          </a:xfrm>
        </p:grpSpPr>
        <p:grpSp>
          <p:nvGrpSpPr>
            <p:cNvPr id="348" name=""/>
            <p:cNvGrpSpPr/>
            <p:nvPr/>
          </p:nvGrpSpPr>
          <p:grpSpPr>
            <a:xfrm>
              <a:off x="3962520" y="3701880"/>
              <a:ext cx="3907080" cy="946440"/>
              <a:chOff x="3962520" y="3701880"/>
              <a:chExt cx="3907080" cy="9464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4038480" y="3701880"/>
                <a:ext cx="3831120" cy="870120"/>
                <a:chOff x="4038480" y="3701880"/>
                <a:chExt cx="3831120" cy="870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038480" y="38862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432"/>
                      </a:moveTo>
                      <a:cubicBezTo>
                        <a:pt x="4" y="372"/>
                        <a:pt x="8" y="312"/>
                        <a:pt x="240" y="240"/>
                      </a:cubicBezTo>
                      <a:cubicBezTo>
                        <a:pt x="472" y="168"/>
                        <a:pt x="1176" y="32"/>
                        <a:pt x="1392" y="0"/>
                      </a:cubicBezTo>
                    </a:path>
                  </a:pathLst>
                </a:custGeom>
                <a:noFill/>
                <a:ln w="57240">
                  <a:solidFill>
                    <a:srgbClr val="ecd88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87480" y="3701880"/>
                  <a:ext cx="1482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QFE/SP Branch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962520" y="4495680"/>
                <a:ext cx="152280" cy="15264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809880" y="6095880"/>
              <a:ext cx="518184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At RTM, a QFE/SP branch is created. N+1 Branch integrates from main, then integrates their branch into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14800" y="4572000"/>
              <a:ext cx="0" cy="137160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0" y="4572000"/>
              <a:ext cx="0" cy="137160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allel Develop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200" y="1397160"/>
          <a:ext cx="670572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97160"/>
                    <a:ext cx="670572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Level Independence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ams integrate their changes into the “main” trunk one at a time, so there is a high degree of accountability when something goes wrong in “main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breaks will happen, but they are easily localized to the branch level, not the main product codeli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ams are isolated from mistakes made by other tea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en errors occur, they affect smaller tea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build, boot, or test break only affects a small subset of the windows development tea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team has their own view of the source tree and their own mini build la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.e. Each team’s lab is enlisted in ALL projects and builds ALL projec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team needs resources able to build an NT syst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team’s build lab builds, tests, and mini-bvt’s a complete standalone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tomated Buil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lab runs 100% hands of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am and 10pm full synch and full bui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ild failures are auto detected and mailed to the te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ccessful builds are automatically released with automatic notification to the te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VBL can buil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 platforms (x86 fre/chk, ia64 fre/chk) = 8 builds each day, 56 each we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manual steps at all. 100% Hands off automati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7 VBLs in Win2k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jority of builds work, but failures when they occur are isolated to a single te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ductivity G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can easily switch from working on release N to release N+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in one team will not be impacted by mistakes/changes made by other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have long, frequent checkin windows (Base team has a 24x7 open checkin window, vs. 2-3 hour per day checkin window with manual approval used during W2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 code control system is fast and reli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ing is done on complete builds instead of assorted collections of private bina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in the source code control system is what is tes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is it worki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 is working very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caling problems, easily handling 5100 total user enlistments and 411,000 fi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restructuring is working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new depots added, explicit sharing between projects still the r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llel Development is working very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ams feel independent and able to control their own desti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-team serialization only occurs when a team “reverse integrates” their changes into the main bran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itial NT development environment and culture worked well for the first few yea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n years of team and code growth forced a major re-design of the development environment and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the new environment in place, the team is working a lot like they did in the NT 3.1 days with a small, fast moving, development te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0" name="BD15506_" descr=""/>
          <p:cNvPicPr/>
          <p:nvPr/>
        </p:nvPicPr>
        <p:blipFill>
          <a:blip r:embed="rId1"/>
          <a:stretch/>
        </p:blipFill>
        <p:spPr>
          <a:xfrm>
            <a:off x="1903320" y="1600200"/>
            <a:ext cx="42465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x Timeline first 20 yea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9 Coding Beg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1 First Edition – PDP 11/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3 Fourth Edition – Rewritten in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5 Fifth Edition – Leaves Bell Labs, basis for BSD 1.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9 Seventh Edition – One of the b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2 System II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4 4.2 BS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9 SVR4 Unification of Xenix, BSD, System 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development begi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of 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am forms November 198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 guys from DE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guy from Microso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from the ground 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vanced PC Operating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igned for for desktops and serv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re, scalable SMP desig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new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edule: 18months (only missed our date by 3 year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of NT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l effort targeted at Intel i860 code-named N10, hence the name NT which doubled as N-Ten and New Techn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 development done on i860 simulator running on OS/2 1.2 (took about 30 minutes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crosoft built a single board i860 computer code named Dazzle including the supporting chipset and actually ran a full kernel, memory management, etc on the machi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iler came from Metaware with weekly UUCP updates sent to my Sun-4/20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crosoft wrote a PE/Coff linker as well as a graphical cross debugg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ign Longev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 Code has a long life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base your OS on solid design princi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set goals, and not everything can be at the top of the l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design for evolution in hardware, usage patterns, etc.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ly way to succeed is base your design on a solid architectural found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 environments never get enough attention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 Set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rst job was to establish high level goal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rtability – Ability to target more than one processor, avoid assembler, abstract away machine dependencies. We purposely started the i386 port very late in order to avoid falling into a typical, Microsoft, x86 centric desig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liability – Nothing should be able to crash the OS. Anything that crashes the OS is a bug. Very radical thinking inside of Microsoft considering Win16 was cooperative multi-tasking in a single address space, and OS/2 had many similar attributes with respect to memory isolation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ensibility – Ability to extend the OS over ti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patibility – With DOS, OS/2, POSIX, or other popular runtimes. This is the foundation work that allowed us to invent windows two years into NT OS/2 develop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erformance – All of the above are more important than raw speed!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NT OS/2 Design Workboo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ign of executive captured in functional spe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ten by engineers, for engine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 functional interface was defined and review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all teams can do this efficiently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king this process scale is an almost impossible challen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nior developers are inundated with spec reviews and the value of their feedback becomes meaningl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ou have to spread review duties broadly, and everyone must share the “culture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5:57:25Z</dcterms:created>
  <dc:creator>Mark Lucovsky</dc:creator>
  <dc:description/>
  <dc:language>en-US</dc:language>
  <cp:lastModifiedBy>Mark Lucovsky</cp:lastModifiedBy>
  <dcterms:modified xsi:type="dcterms:W3CDTF">2000-08-03T18:25:20Z</dcterms:modified>
  <cp:revision>98</cp:revision>
  <dc:subject/>
  <dc:title>Windows A Software Engineering Odyssey</dc:title>
</cp:coreProperties>
</file>