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68E-8959-4224-ABFC-74A75E41A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F61-7EE0-4E4B-8F76-8BA0E596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A810-5CAE-49DF-A72A-895A00315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FD37-015A-4D9C-8309-04AA65E3A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2AA4F-4E5A-444A-84BB-B23A750DB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6F51-77A2-472B-834C-30BA00A7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94DB-6145-4A7A-B508-4A9AB7D0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0879-750E-4FB6-A03E-62278CCCF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2E0D-A0AC-459F-A93B-B42456BC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70F8-3BEE-40D5-BE87-F5D9997D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2F24-09BA-4CFE-AA5C-F7CDA18A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EEDE-5F98-477F-B30D-E2B3E23B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4CE9C-279F-4098-8FDC-6F76089E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5BCA9-ADA9-48AB-B9C2-1F22030C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A679-EC6C-4658-BAAE-F726642F7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A98F-61A8-4CD2-BFAE-861B4DE3F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49EAF-1C09-46E2-9430-1F5AF2F32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7A83-4836-4876-98D1-1758E0B8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DB25-0E56-4A90-A098-33F11890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A072-4E5D-4FE3-B2A3-1D58996A9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FCA1-AE02-481A-AD55-287514EA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310F-A91E-462E-89FD-C9EC73BB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13DA-D22A-4E03-B277-46045FBA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767D-9B98-4C52-B779-F0E1DF5C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2CAF-9360-4954-B040-45C763E70139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2EB2-0A6A-4C1C-8C1C-6D7E708EBED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Windows</a:t>
            </a:r>
            <a:br>
              <a:rPr sz="4400"/>
            </a:b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Software Engineering Odysse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ark Lucovs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stinguished Engine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icrosoft Corpor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veloping a Cul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 scale a development team, you need to establish a cul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mon way of evaluating designs, making tradeoff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mon way of developing code and reacting to problems (build breaks, critical bugs, etc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mon way of establishing ownership of proble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Goal setting can be the foundation for the cul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eeping a culture alive as a team grows is a huge challeng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NT Cul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ortability, Reliability, Security, and Extensibility ingrained as the teams top prior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very decision was made in the context of these design goal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eryone owns all the code, so whenever something is busted anyone has a right and a duty to fix 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orks in small groups (&lt; 150 people) where people cover for each othe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ails miserably in large group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loppiness is not tolerat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reat idea, but very difficult to nurture as group grow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use and intimidation gets way out of control, can’t keep calling people stupid and expect them to liste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 successful culture has to accept that mistakes will happ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velopment Environ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T 3.1 vs. Windows 2000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elopment Tea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 Code Control Syst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cess Manage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rialized Develop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fec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velopment Te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T 3.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arts very small (6), grows very slowly to 200 peop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T Culture was commonly understood by al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indows 200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s assimilation of other teams into the NT tea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T 4.0 had 800 developers, Windows 2000 had 140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Original NT culture practiced by the old timers in the group, but keeping the culture alive was very difficult due to growth, physical separation, etc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iluted culture leads to much conflic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Accountability: I don’t “own” the code that is busted, see Markl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reliability vs. new featur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64-bit portability vs. new feature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urce Code Control System (NT 3.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ernally developed, maintained by a non-NT tools tea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branch capability, but with small team, it was not need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0-12 well isolated source “projects”, 6M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formal project separation worked we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inimal obscure source level dependenc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mall hard drive could easily hold entire source tre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eloper could easily stay in synch with changes made to the syst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urce Code Control System (Windows 2000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indows team takes ownership of source code control system which at this point is on life suppor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ranch capability sorely needed, tree copies used as substitute, so merging is a nightmar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80 source “projects” 29M LO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project separation, reaching “up and over” was very common as developers tried to minimize what they had to carry on their machines to get their jobs do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Full source base required about 50Gb of disk sp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o keep a machine in synch was a huge chore (1 week to setup, 2 hours per-day to synchroniz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cess Management (NT 3.1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fe synch period in effect for ~4 hours each day, all other times the rule is check-in when rea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ild lab synchs during morning safe synch period, and starts a complete build.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uild breaks are corrected manually during the build process (1-2 breaks was norma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lete build time is 5 hours on ~486/5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ild is boot tested with some very minimal testing before release to stress test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fects corrected with incremental build fix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4pm, stress testing on ~100 machines begi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cess Management (Windows 2000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velopers are not allowed to change the source tree without explicit, email/written permissio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uild lab manually approves each check-in using a combination of email, web, and bug tracking databas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uild lab approves about 100 changes each day and manually issues the appropriate synch and build command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Build breaks are corrected manually, and when they occur, all further build processing is halte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developer that mistypes a build instruction can stop the build lab, which in turn stops over 5,000 peop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omplete build time is 8 hours on 4 way PIII Xeon 550 with 50Gb disk and 512k RA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uild is boot tested and assuming we get a boot, extensive baseline testing begi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Testing is a mostly manual, semi-automated proces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efects occurring in the boot or test phase must be corrected before build is “released” for stress testin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4pm, stress testing on ~1000 machines begin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am Siz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838080" y="1676520"/>
          <a:ext cx="7848720" cy="4521240"/>
        </p:xfrm>
        <a:graphic>
          <a:graphicData uri="http://schemas.openxmlformats.org/drawingml/2006/table">
            <a:tbl>
              <a:tblPr/>
              <a:tblGrid>
                <a:gridCol w="1676520"/>
                <a:gridCol w="3047760"/>
                <a:gridCol w="3124440"/>
              </a:tblGrid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40458c"/>
                          </a:solidFill>
                          <a:uFillTx/>
                          <a:latin typeface="Tahoma"/>
                        </a:rPr>
                        <a:t>Product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40458c"/>
                          </a:solidFill>
                          <a:uFillTx/>
                          <a:latin typeface="Tahoma"/>
                        </a:rPr>
                        <a:t>Dev Team Size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u="sng">
                          <a:solidFill>
                            <a:srgbClr val="40458c"/>
                          </a:solidFill>
                          <a:uFillTx/>
                          <a:latin typeface="Tahoma"/>
                        </a:rPr>
                        <a:t>Test Team Size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T 3.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0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4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T 3.5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0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3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T 3.51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5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25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T 4.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0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70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Win2k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40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700</a:t>
                      </a:r>
                      <a:endParaRPr b="0" lang="en-US" sz="2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rialized Develop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914400" y="3395520"/>
          <a:ext cx="7467480" cy="30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395520"/>
                    <a:ext cx="746748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838080" y="167652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he model from NT 3.1 -&gt; Windows 2000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ll developers on team check-in to a single main line branc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ter build lab synchs to main branch and builds and releases from that branch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Checked in defect affects everyone waiting for result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istory of 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sign Goals/Cul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T 3.1 Development vs. Windows 2000 Developm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velopment for the next 10 yea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fect Rates and Serializa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pile time or run time bugs that occur in a developers office only affect that develope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nce a defect is checked-in, the number of people affected by the defect increas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st developers are going to check-in a runtime or compile time mistake at least twice each yea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st developers will be able to cope with a checked-in compile time or run time break very quickly (about 20 minutes end-to-end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s the code base gets larger, and as the team gets larger, these numbers typically dou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Defect Rates Dat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990720" y="3505320"/>
          <a:ext cx="7772400" cy="2862000"/>
        </p:xfrm>
        <a:graphic>
          <a:graphicData uri="http://schemas.openxmlformats.org/drawingml/2006/table">
            <a:tbl>
              <a:tblPr/>
              <a:tblGrid>
                <a:gridCol w="1828800"/>
                <a:gridCol w="1067040"/>
                <a:gridCol w="1447560"/>
                <a:gridCol w="1143000"/>
                <a:gridCol w="2286000"/>
              </a:tblGrid>
              <a:tr h="13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roduc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and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eam Siz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efects: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er year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er Dev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ime to Fix: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er Defect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efects: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Per Day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Defect Fix Time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1368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T 3.1, 2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0 minut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0 minut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T 3.5, 3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5 minut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.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1 minut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T 3.51, 45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0 minut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.5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.2 hour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NT 4.0, 8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5 minut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6.6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.8 hour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Win2k, 1400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40 minute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5.3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0.2 hours</a:t>
                      </a:r>
                      <a:endParaRPr b="0" lang="en-US" sz="18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1368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1368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ith serialized development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ood, small teams operate efficientl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ven the absolute best large teams are always broken, and always serializ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velopment Environment 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T 3.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ast and loose development, lots of fun, lots of energ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ew barriers to getting your work do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efects serialized parts of the process, but didn’t stop the whole machine, minimal down tim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indows 2000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ource code control system bursting at the seam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cessive process management serialized the entire development process, 1 defect stops 1400 devs, 5000 team members!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esources required to build a complete instance of NT were excessive giving few developers a way to be successfu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ocused Fix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 Code Control Syste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 Code Restructur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ke the large team work like a set of small team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indows is already organized into reasonable size development tea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Goal is to allow these teams to work as a team when contributing source code changes rather than as a group of individuals that happen to work for the same VP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arallel Development, Team Level Independen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utomated Buil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urce Code Control Syste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source code control system identified 3/99 (SourceDepot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ative branch suppo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calable, high speed, client server architectur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machine setup 3 hours vs. 1 week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rmal synch 5 minutes vs. 2 hou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urce Code Control System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ransition to SourceDepot done on LIVE Win2k code b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and built SLM -&gt; SourceDepot migration system allowed us to keep in synch with the old system while transitioning to SourceDepot and changing the source code layou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urce Code Restructu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6 Depots for covering each major area of source cod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rganization is focused on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inimizing cross project dependencies to reduce defect ra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zing projects to compile in a reasonable amount of 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o build a project, all you need is the code for that project, AND the public/root pro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ross project sharing is explici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ew Tree Layou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914400" y="2057040"/>
            <a:ext cx="5486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new tree layout featur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oot project houses publ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15 Additional projects hang off of the Roo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nested projec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l projects build independentl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ross project dependencies resolved via Public, Public\internal using checked in interfaces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6553080" y="2209680"/>
          <a:ext cx="1954440" cy="4114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553080" y="2209680"/>
                    <a:ext cx="1954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xplicit Internal Interface Shar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685800" y="2133720"/>
          <a:ext cx="2405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2405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>
            <a:off x="4114800" y="3940200"/>
            <a:ext cx="1905120" cy="914400"/>
          </a:xfrm>
          <a:prstGeom prst="borderCallout1">
            <a:avLst>
              <a:gd name="adj1" fmla="val -16326"/>
              <a:gd name="adj2" fmla="val -1800"/>
              <a:gd name="adj3" fmla="val 20304"/>
              <a:gd name="adj4" fmla="val -1800"/>
            </a:avLst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The Base Project internal interfaces exposed he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038480" y="2244600"/>
            <a:ext cx="1905120" cy="914400"/>
          </a:xfrm>
          <a:prstGeom prst="borderCallout1">
            <a:avLst>
              <a:gd name="adj1" fmla="val -14292"/>
              <a:gd name="adj2" fmla="val 23400"/>
              <a:gd name="adj3" fmla="val 20304"/>
              <a:gd name="adj4" fmla="val 23400"/>
            </a:avLst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The Admin Project internal interfaces exposed he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am Level Independ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ach team determines its own check-in policy, enable rapid, frequent check i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ams are isolated from mistakes made by other tea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en errors occur, only the team causing the error is affect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 build, boot, or test break only affects a small subset of the product grou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ach team has their own view of the source tree, their own mini build lab, and builds an entire installable buil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ny developer with adequate resources can easily duplicate a mini build la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uild and release a completely installable Windows Syste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T Timeline first 10 yea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2/89 Coding Begi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7/93 NT 3.1 Ship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9/94 NT 3.5 Ship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5/95 NT 3.51 Ship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7/96 NT 4.0 Ship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2/99 NT 5.0 a.k.a. Windows 2000 ship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allel Development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4572000"/>
            <a:ext cx="5791320" cy="0"/>
          </a:xfrm>
          <a:prstGeom prst="line">
            <a:avLst/>
          </a:prstGeom>
          <a:ln w="572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44197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Main Build Lab Branch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57200" y="3247920"/>
            <a:ext cx="8372520" cy="1324080"/>
            <a:chOff x="457200" y="3247920"/>
            <a:chExt cx="8372520" cy="1324080"/>
          </a:xfrm>
        </p:grpSpPr>
        <p:sp>
          <p:nvSpPr>
            <p:cNvPr id="278" name=""/>
            <p:cNvSpPr/>
            <p:nvPr/>
          </p:nvSpPr>
          <p:spPr>
            <a:xfrm>
              <a:off x="457200" y="3429000"/>
              <a:ext cx="5943600" cy="1143000"/>
            </a:xfrm>
            <a:custGeom>
              <a:avLst/>
              <a:gdLst/>
              <a:ahLst/>
              <a:rect l="l" t="t" r="r" b="b"/>
              <a:pathLst>
                <a:path w="4464" h="1264">
                  <a:moveTo>
                    <a:pt x="0" y="1264"/>
                  </a:moveTo>
                  <a:cubicBezTo>
                    <a:pt x="252" y="840"/>
                    <a:pt x="504" y="416"/>
                    <a:pt x="1248" y="208"/>
                  </a:cubicBezTo>
                  <a:cubicBezTo>
                    <a:pt x="1992" y="0"/>
                    <a:pt x="3928" y="32"/>
                    <a:pt x="4464" y="16"/>
                  </a:cubicBezTo>
                </a:path>
              </a:pathLst>
            </a:custGeom>
            <a:noFill/>
            <a:ln w="572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405480" y="3247920"/>
              <a:ext cx="242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Debbl’s Windows Branch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609480" y="4876920"/>
            <a:ext cx="297180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Main branch is built by the master build lab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spcBef>
                <a:spcPts val="1001"/>
              </a:spcBef>
              <a:buClr>
                <a:srgbClr val="40458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Times New Roman"/>
              </a:rPr>
              <a:t>Quality is always high because only well tested complete group check-ins are done her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2438280"/>
            <a:ext cx="8229600" cy="4179960"/>
            <a:chOff x="457200" y="2438280"/>
            <a:chExt cx="8229600" cy="4179960"/>
          </a:xfrm>
        </p:grpSpPr>
        <p:grpSp>
          <p:nvGrpSpPr>
            <p:cNvPr id="282" name=""/>
            <p:cNvGrpSpPr/>
            <p:nvPr/>
          </p:nvGrpSpPr>
          <p:grpSpPr>
            <a:xfrm>
              <a:off x="457200" y="2438280"/>
              <a:ext cx="8229600" cy="2133720"/>
              <a:chOff x="457200" y="2438280"/>
              <a:chExt cx="8229600" cy="2133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57200" y="2590920"/>
                <a:ext cx="5791320" cy="1981080"/>
              </a:xfrm>
              <a:custGeom>
                <a:avLst/>
                <a:gdLst/>
                <a:ahLst/>
                <a:rect l="l" t="t" r="r" b="b"/>
                <a:pathLst>
                  <a:path w="4464" h="1264">
                    <a:moveTo>
                      <a:pt x="0" y="1264"/>
                    </a:moveTo>
                    <a:cubicBezTo>
                      <a:pt x="252" y="840"/>
                      <a:pt x="504" y="416"/>
                      <a:pt x="1248" y="208"/>
                    </a:cubicBezTo>
                    <a:cubicBezTo>
                      <a:pt x="1992" y="0"/>
                      <a:pt x="3928" y="32"/>
                      <a:pt x="4464" y="16"/>
                    </a:cubicBezTo>
                  </a:path>
                </a:pathLst>
              </a:custGeom>
              <a:noFill/>
              <a:ln w="5724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324480" y="2438280"/>
                <a:ext cx="2362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58c"/>
                    </a:solidFill>
                    <a:latin typeface="Times New Roman"/>
                  </a:rPr>
                  <a:t>Robs Base Branch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09480" y="4809960"/>
              <a:ext cx="4038840" cy="180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buClr>
                  <a:srgbClr val="40458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Team branches have their own check-in policy.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buClr>
                  <a:srgbClr val="40458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Team members check-in to their branch, not the main branch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buClr>
                  <a:srgbClr val="40458c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Each team branch has their own mini-build lab that produces full builds for that team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685800" y="1676520"/>
            <a:ext cx="3733920" cy="4952880"/>
            <a:chOff x="685800" y="1676520"/>
            <a:chExt cx="3733920" cy="4952880"/>
          </a:xfrm>
        </p:grpSpPr>
        <p:grpSp>
          <p:nvGrpSpPr>
            <p:cNvPr id="287" name=""/>
            <p:cNvGrpSpPr/>
            <p:nvPr/>
          </p:nvGrpSpPr>
          <p:grpSpPr>
            <a:xfrm>
              <a:off x="1371600" y="1676520"/>
              <a:ext cx="2438280" cy="1218960"/>
              <a:chOff x="1371600" y="1676520"/>
              <a:chExt cx="2438280" cy="1218960"/>
            </a:xfrm>
          </p:grpSpPr>
          <p:sp>
            <p:nvSpPr>
              <p:cNvPr id="288" name=""/>
              <p:cNvSpPr/>
              <p:nvPr/>
            </p:nvSpPr>
            <p:spPr>
              <a:xfrm>
                <a:off x="1371600" y="1676520"/>
                <a:ext cx="2438280" cy="82404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58c"/>
                    </a:solidFill>
                    <a:latin typeface="Times New Roman"/>
                  </a:rPr>
                  <a:t>Robs team checks into his own branch without affecting Main, or Debbl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2514600"/>
                <a:ext cx="0" cy="380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133720" y="2514600"/>
                <a:ext cx="0" cy="380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2286000" y="2514600"/>
                <a:ext cx="0" cy="380880"/>
              </a:xfrm>
              <a:prstGeom prst="line">
                <a:avLst/>
              </a:prstGeom>
              <a:ln w="2844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685800" y="4876920"/>
              <a:ext cx="3733920" cy="175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1371600" y="1676520"/>
            <a:ext cx="2514600" cy="1981080"/>
            <a:chOff x="1371600" y="1676520"/>
            <a:chExt cx="2514600" cy="1981080"/>
          </a:xfrm>
        </p:grpSpPr>
        <p:sp>
          <p:nvSpPr>
            <p:cNvPr id="294" name=""/>
            <p:cNvSpPr/>
            <p:nvPr/>
          </p:nvSpPr>
          <p:spPr>
            <a:xfrm>
              <a:off x="1371600" y="1676520"/>
              <a:ext cx="2514600" cy="8240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Debbl’s team makes similar check-ins without impacting Rob or Mai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905120" y="335268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057400" y="327672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09680" y="3276720"/>
              <a:ext cx="0" cy="3045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62320" y="320040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2438280" y="2895120"/>
            <a:ext cx="2514600" cy="2486160"/>
            <a:chOff x="2438280" y="2895120"/>
            <a:chExt cx="2514600" cy="2486160"/>
          </a:xfrm>
        </p:grpSpPr>
        <p:sp>
          <p:nvSpPr>
            <p:cNvPr id="300" name=""/>
            <p:cNvSpPr/>
            <p:nvPr/>
          </p:nvSpPr>
          <p:spPr>
            <a:xfrm flipV="1">
              <a:off x="2438280" y="2895120"/>
              <a:ext cx="0" cy="167652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14600" y="4800600"/>
              <a:ext cx="2438280" cy="5806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Rob integrates build lab changes to his tree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057400" y="2819520"/>
            <a:ext cx="3429000" cy="2561760"/>
            <a:chOff x="2057400" y="2819520"/>
            <a:chExt cx="3429000" cy="2561760"/>
          </a:xfrm>
        </p:grpSpPr>
        <p:sp>
          <p:nvSpPr>
            <p:cNvPr id="303" name=""/>
            <p:cNvSpPr/>
            <p:nvPr/>
          </p:nvSpPr>
          <p:spPr>
            <a:xfrm flipV="1">
              <a:off x="2743200" y="2819520"/>
              <a:ext cx="0" cy="167616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057400" y="4800600"/>
              <a:ext cx="3429000" cy="5806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Rob builds resulting tree, tests tree and then integrates to the main branch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1981080" y="3181320"/>
            <a:ext cx="3657600" cy="2228400"/>
            <a:chOff x="1981080" y="3181320"/>
            <a:chExt cx="3657600" cy="2228400"/>
          </a:xfrm>
        </p:grpSpPr>
        <p:sp>
          <p:nvSpPr>
            <p:cNvPr id="306" name=""/>
            <p:cNvSpPr/>
            <p:nvPr/>
          </p:nvSpPr>
          <p:spPr>
            <a:xfrm flipV="1">
              <a:off x="3124080" y="3562200"/>
              <a:ext cx="0" cy="99072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895480" y="3181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71800" y="3181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819520" y="3181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666880" y="3181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14600" y="3181320"/>
              <a:ext cx="0" cy="304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81080" y="4829040"/>
              <a:ext cx="3657600" cy="5806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Debbl makes a few changes then integrates from the main build lab branch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371600" y="1676520"/>
            <a:ext cx="4267080" cy="4434840"/>
            <a:chOff x="1371600" y="1676520"/>
            <a:chExt cx="4267080" cy="4434840"/>
          </a:xfrm>
        </p:grpSpPr>
        <p:grpSp>
          <p:nvGrpSpPr>
            <p:cNvPr id="314" name=""/>
            <p:cNvGrpSpPr/>
            <p:nvPr/>
          </p:nvGrpSpPr>
          <p:grpSpPr>
            <a:xfrm>
              <a:off x="1981080" y="3124080"/>
              <a:ext cx="3657600" cy="2987280"/>
              <a:chOff x="1981080" y="3124080"/>
              <a:chExt cx="3657600" cy="298728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3200400" y="3124080"/>
                <a:ext cx="609480" cy="1371600"/>
                <a:chOff x="3200400" y="3124080"/>
                <a:chExt cx="609480" cy="13716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809880" y="3505320"/>
                  <a:ext cx="0" cy="9903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prstDash val="dash"/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200400" y="312408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352680" y="312408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505320" y="312408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3657600" y="3124080"/>
                  <a:ext cx="0" cy="30492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1981080" y="4800600"/>
                <a:ext cx="3657600" cy="1310760"/>
              </a:xfrm>
              <a:prstGeom prst="rect">
                <a:avLst/>
              </a:pr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0458c"/>
                    </a:solidFill>
                    <a:latin typeface="Times New Roman"/>
                  </a:rPr>
                  <a:t>During test, more changes are needed to make system work well. When done, integration into main build lab branch occurs. During this period, robs team continues to check-in to their branch</a:t>
                </a:r>
                <a:endParaRPr b="0" lang="en-US" sz="16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1371600" y="1676520"/>
              <a:ext cx="2514600" cy="1066680"/>
              <a:chOff x="1371600" y="1676520"/>
              <a:chExt cx="2514600" cy="1066680"/>
            </a:xfrm>
          </p:grpSpPr>
          <p:sp>
            <p:nvSpPr>
              <p:cNvPr id="323" name=""/>
              <p:cNvSpPr/>
              <p:nvPr/>
            </p:nvSpPr>
            <p:spPr>
              <a:xfrm>
                <a:off x="1371600" y="1676520"/>
                <a:ext cx="2514600" cy="838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2895480" y="2438280"/>
                <a:ext cx="762120" cy="304920"/>
                <a:chOff x="2895480" y="2438280"/>
                <a:chExt cx="762120" cy="30492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2895480" y="243828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3048120" y="243828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3200400" y="243828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352680" y="243828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505320" y="243828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3657600" y="2438280"/>
                  <a:ext cx="0" cy="304920"/>
                </a:xfrm>
                <a:prstGeom prst="line">
                  <a:avLst/>
                </a:prstGeom>
                <a:ln w="2844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1" name=""/>
          <p:cNvGrpSpPr/>
          <p:nvPr/>
        </p:nvGrpSpPr>
        <p:grpSpPr>
          <a:xfrm>
            <a:off x="1305000" y="4572000"/>
            <a:ext cx="6666840" cy="1600200"/>
            <a:chOff x="1305000" y="4572000"/>
            <a:chExt cx="6666840" cy="1600200"/>
          </a:xfrm>
        </p:grpSpPr>
        <p:sp>
          <p:nvSpPr>
            <p:cNvPr id="332" name=""/>
            <p:cNvSpPr/>
            <p:nvPr/>
          </p:nvSpPr>
          <p:spPr>
            <a:xfrm>
              <a:off x="1981080" y="4800600"/>
              <a:ext cx="3657600" cy="137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05000" y="4572000"/>
              <a:ext cx="4267080" cy="1371600"/>
            </a:xfrm>
            <a:custGeom>
              <a:avLst/>
              <a:gdLst/>
              <a:ahLst/>
              <a:rect l="l" t="t" r="r" b="b"/>
              <a:pathLst>
                <a:path w="2688" h="864">
                  <a:moveTo>
                    <a:pt x="0" y="0"/>
                  </a:moveTo>
                  <a:cubicBezTo>
                    <a:pt x="88" y="288"/>
                    <a:pt x="176" y="576"/>
                    <a:pt x="624" y="720"/>
                  </a:cubicBezTo>
                  <a:cubicBezTo>
                    <a:pt x="1072" y="864"/>
                    <a:pt x="1880" y="864"/>
                    <a:pt x="2688" y="864"/>
                  </a:cubicBezTo>
                </a:path>
              </a:pathLst>
            </a:custGeom>
            <a:noFill/>
            <a:ln w="57240">
              <a:solidFill>
                <a:srgbClr val="cc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402600" y="571500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N+1 Dev Branch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1828800" y="4572000"/>
            <a:ext cx="7162920" cy="2104560"/>
            <a:chOff x="1828800" y="4572000"/>
            <a:chExt cx="7162920" cy="2104560"/>
          </a:xfrm>
        </p:grpSpPr>
        <p:grpSp>
          <p:nvGrpSpPr>
            <p:cNvPr id="336" name=""/>
            <p:cNvGrpSpPr/>
            <p:nvPr/>
          </p:nvGrpSpPr>
          <p:grpSpPr>
            <a:xfrm>
              <a:off x="1828800" y="4572000"/>
              <a:ext cx="1447920" cy="1523880"/>
              <a:chOff x="1828800" y="4572000"/>
              <a:chExt cx="1447920" cy="1523880"/>
            </a:xfrm>
          </p:grpSpPr>
          <p:sp>
            <p:nvSpPr>
              <p:cNvPr id="337" name=""/>
              <p:cNvSpPr/>
              <p:nvPr/>
            </p:nvSpPr>
            <p:spPr>
              <a:xfrm flipV="1">
                <a:off x="1828800" y="5562720"/>
                <a:ext cx="0" cy="30456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1981080" y="5638320"/>
                <a:ext cx="0" cy="30492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2133720" y="5714640"/>
                <a:ext cx="0" cy="30492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2286000" y="5791320"/>
                <a:ext cx="0" cy="30456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2514600" y="5791320"/>
                <a:ext cx="0" cy="304560"/>
              </a:xfrm>
              <a:prstGeom prst="line">
                <a:avLst/>
              </a:prstGeom>
              <a:ln w="28440">
                <a:solidFill>
                  <a:srgbClr val="cc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2057400" y="4572000"/>
                <a:ext cx="0" cy="990720"/>
              </a:xfrm>
              <a:prstGeom prst="line">
                <a:avLst/>
              </a:prstGeom>
              <a:ln cap="rnd" w="28440">
                <a:solidFill>
                  <a:srgbClr val="cc00c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438280" y="4572000"/>
                <a:ext cx="0" cy="1143000"/>
              </a:xfrm>
              <a:prstGeom prst="line">
                <a:avLst/>
              </a:prstGeom>
              <a:ln cap="rnd" w="28440">
                <a:solidFill>
                  <a:srgbClr val="cc00c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276720" y="4572000"/>
                <a:ext cx="0" cy="1295280"/>
              </a:xfrm>
              <a:prstGeom prst="line">
                <a:avLst/>
              </a:prstGeom>
              <a:ln cap="rnd" w="28440">
                <a:solidFill>
                  <a:srgbClr val="cc00c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819520" y="4572000"/>
                <a:ext cx="0" cy="1219320"/>
              </a:xfrm>
              <a:prstGeom prst="line">
                <a:avLst/>
              </a:prstGeom>
              <a:ln cap="rnd" w="28440">
                <a:solidFill>
                  <a:srgbClr val="cc00cc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3962520" y="6095880"/>
              <a:ext cx="5029200" cy="5806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N+1 Team checks into their branch and periodically integrates from mai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809880" y="3701880"/>
            <a:ext cx="5181840" cy="2974680"/>
            <a:chOff x="3809880" y="3701880"/>
            <a:chExt cx="5181840" cy="2974680"/>
          </a:xfrm>
        </p:grpSpPr>
        <p:grpSp>
          <p:nvGrpSpPr>
            <p:cNvPr id="348" name=""/>
            <p:cNvGrpSpPr/>
            <p:nvPr/>
          </p:nvGrpSpPr>
          <p:grpSpPr>
            <a:xfrm>
              <a:off x="3962520" y="3701880"/>
              <a:ext cx="3907080" cy="946440"/>
              <a:chOff x="3962520" y="3701880"/>
              <a:chExt cx="3907080" cy="946440"/>
            </a:xfrm>
          </p:grpSpPr>
          <p:grpSp>
            <p:nvGrpSpPr>
              <p:cNvPr id="349" name=""/>
              <p:cNvGrpSpPr/>
              <p:nvPr/>
            </p:nvGrpSpPr>
            <p:grpSpPr>
              <a:xfrm>
                <a:off x="4038480" y="3701880"/>
                <a:ext cx="3831120" cy="870120"/>
                <a:chOff x="4038480" y="3701880"/>
                <a:chExt cx="3831120" cy="87012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038480" y="3886200"/>
                  <a:ext cx="2210040" cy="685800"/>
                </a:xfrm>
                <a:custGeom>
                  <a:avLst/>
                  <a:gdLst/>
                  <a:ahLst/>
                  <a:rect l="l" t="t" r="r" b="b"/>
                  <a:pathLst>
                    <a:path w="1392" h="432">
                      <a:moveTo>
                        <a:pt x="0" y="432"/>
                      </a:moveTo>
                      <a:cubicBezTo>
                        <a:pt x="4" y="372"/>
                        <a:pt x="8" y="312"/>
                        <a:pt x="240" y="240"/>
                      </a:cubicBezTo>
                      <a:cubicBezTo>
                        <a:pt x="472" y="168"/>
                        <a:pt x="1176" y="32"/>
                        <a:pt x="1392" y="0"/>
                      </a:cubicBezTo>
                    </a:path>
                  </a:pathLst>
                </a:custGeom>
                <a:noFill/>
                <a:ln w="57240">
                  <a:solidFill>
                    <a:srgbClr val="ecd882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387480" y="3701880"/>
                  <a:ext cx="1482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40458c"/>
                      </a:solidFill>
                      <a:latin typeface="Times New Roman"/>
                    </a:rPr>
                    <a:t>QFE/SP Branch</a:t>
                  </a:r>
                  <a:endParaRPr b="0" lang="en-US" sz="16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3962520" y="4495680"/>
                <a:ext cx="152280" cy="152640"/>
              </a:xfrm>
              <a:prstGeom prst="ellipse">
                <a:avLst/>
              </a:prstGeom>
              <a:solidFill>
                <a:srgbClr val="ecd882"/>
              </a:solidFill>
              <a:ln w="9360">
                <a:solidFill>
                  <a:srgbClr val="40458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3809880" y="6095880"/>
              <a:ext cx="5181840" cy="5806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40458c"/>
                  </a:solidFill>
                  <a:latin typeface="Times New Roman"/>
                </a:rPr>
                <a:t>At RTM, a QFE/SP branch is created. N+1 Branch integrates from main, then integrates their branch into main</a:t>
              </a:r>
              <a:endParaRPr b="0" lang="en-US" sz="16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114800" y="4572000"/>
              <a:ext cx="0" cy="1371600"/>
            </a:xfrm>
            <a:prstGeom prst="line">
              <a:avLst/>
            </a:prstGeom>
            <a:ln cap="rnd" w="28440">
              <a:solidFill>
                <a:srgbClr val="cc00cc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72000" y="4572000"/>
              <a:ext cx="0" cy="1371600"/>
            </a:xfrm>
            <a:prstGeom prst="line">
              <a:avLst/>
            </a:prstGeom>
            <a:ln cap="rnd" w="28440">
              <a:solidFill>
                <a:srgbClr val="cc00cc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arallel Develop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57200" y="1397160"/>
          <a:ext cx="6705720" cy="525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397160"/>
                    <a:ext cx="6705720" cy="525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eam Level Independence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eams integrate their changes into the “main” trunk one at a time, so there is a high degree of accountability when something goes wrong in “main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Build breaks will happen, but they are easily localized to the branch level, not the main product codelin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Teams are isolated from mistakes made by other team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When errors occur, they affect smaller team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 build, boot, or test break only affects a small subset of the windows development tea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ach team has their own view of the source tree and their own mini build lab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I.e. Each team’s lab is enlisted in ALL projects and builds ALL project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ach team needs resources able to build an NT system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ach team’s build lab builds, tests, and mini-bvt’s a complete standalone syste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utomated Build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ild lab runs 100% hands off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10am and 10pm full synch and full buil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uild failures are auto detected and mailed to the te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uccessful builds are automatically released with automatic notification to the tea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ach VBL can build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4 platforms (x86 fre/chk, ia64 fre/chk) = 8 builds each day, 56 each we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o manual steps at all. 100% Hands off automati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7 VBLs in Win2k Group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jority of builds work, but failures when they occur are isolated to a single team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ductivity Gai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velopers can easily switch from working on release N to release N+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velopers in one team will not be impacted by mistakes/changes made by other tea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velopers have long, frequent checkin windows (Base team has a 24x7 open checkin window, vs. 2-3 hour per day checkin window with manual approval used during W2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ource code control system is fast and reliab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sting is done on complete builds instead of assorted collections of private binari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What is in the source code control system is what is teste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is it working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 code control system is working very we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scaling problems, easily handling 5100 total user enlistments and 411,000 fil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rce code restructuring is working we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o new depots added, explicit sharing between projects still the ru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allel Development is working very wel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eams feel independent and able to control their own destin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er-team serialization only occurs when a team “reverse integrates” their changes into the main branch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initial NT development environment and culture worked well for the first few yea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n years of team and code growth forced a major re-design of the development environment and cultur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With the new environment in place, the team is working a lot like they did in the NT 3.1 days with a small, fast moving, development tea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70" name="BD15506_" descr=""/>
          <p:cNvPicPr/>
          <p:nvPr/>
        </p:nvPicPr>
        <p:blipFill>
          <a:blip r:embed="rId1"/>
          <a:stretch/>
        </p:blipFill>
        <p:spPr>
          <a:xfrm>
            <a:off x="1903320" y="1600200"/>
            <a:ext cx="424656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nix Timeline first 20 yea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69 Coding Begin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71 First Edition – PDP 11/2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73 Fourth Edition – Rewritten in 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75 Fifth Edition – Leaves Bell Labs, basis for BSD 1.x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79 Seventh Edition – One of the be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82 System III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84 4.2 BSD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’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89 SVR4 Unification of Xenix, BSD, System V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T development begin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story of 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eam forms November 1988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ix guys from DE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e guy from Microsof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Build from the ground u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dvanced PC Operating Syste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signed for for desktops and serv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cure, scalable SMP desig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l new cod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chedule: 18months (only missed our date by 3 year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story of NT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itial effort targeted at Intel i860 code-named N10, hence the name NT which doubled as N-Ten and New Technolog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st development done on i860 simulator running on OS/2 1.2 (took about 30 minutes)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icrosoft built a single board i860 computer code named Dazzle including the supporting chipset and actually ran a full kernel, memory management, etc on the machin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piler came from Metaware with weekly UUCP updates sent to my Sun-4/200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icrosoft wrote a PE/Coff linker as well as a graphical cross debugger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sign Longevit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S Code has a long lifetim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You have to base your OS on solid design principl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You have to set goals, and not everything can be at the top of the li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You have to design for evolution in hardware, usage patterns, etc.,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ly way to succeed is base your design on a solid architectural founda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evelopment environments never get enough attention…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oal Sett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rst job was to establish high level goal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ortability – Ability to target more than one processor, avoid assembler, abstract away machine dependencies. We purposely started the i386 port very late in order to avoid falling into a typical, Microsoft, x86 centric design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Reliability – Nothing should be able to crash the OS. Anything that crashes the OS is a bug. Very radical thinking inside of Microsoft considering Win16 was cooperative multi-tasking in a single address space, and OS/2 had many similar attributes with respect to memory isolation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tensibility – Ability to extend the OS over tim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ompatibility – With DOS, OS/2, POSIX, or other popular runtimes. This is the foundation work that allowed us to invent windows two years into NT OS/2 development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erformance – All of the above are more important than raw speed!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NT OS/2 Design Workbook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esign of executive captured in functional spec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Written by engineers, for engine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Every functional interface was defined and reviewe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mall teams can do this efficiently,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king this process scale is an almost impossible challeng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nior developers are inundated with spec reviews and the value of their feedback becomes meaningles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You have to spread review duties broadly, and everyone must share the “culture”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5:57:25Z</dcterms:created>
  <dc:creator>Mark Lucovsky</dc:creator>
  <dc:description/>
  <dc:language>en-US</dc:language>
  <cp:lastModifiedBy>Mark Lucovsky</cp:lastModifiedBy>
  <dcterms:modified xsi:type="dcterms:W3CDTF">2000-08-03T18:25:20Z</dcterms:modified>
  <cp:revision>98</cp:revision>
  <dc:subject/>
  <dc:title>Windows A Software Engineering Odyssey</dc:title>
</cp:coreProperties>
</file>